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E9A-AB49-4D05-B6C7-CB86A337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776-74AE-4874-9067-D2A0835B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DC10E-7F6B-4E9B-B326-3412082C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13475-0653-47B6-9FB6-93F2DC44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C918B-2ABA-41D9-8FAF-8C145792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66C1A-BADB-44D5-82A8-13FB9422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FC088-F3CF-4114-B140-4B42B2A2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266B5-C606-4832-9D96-937C4CAC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C3444-6716-4A60-82C0-99337FF2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15025-37F5-49D5-9C30-B9F16E1C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5E711-4FAC-4D93-B158-699476C3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C18E2-69FF-46F7-B726-19E839FF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E41B-8F73-45D0-9646-1823A18F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497B9-0792-4ECF-8F99-824C786A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F343F-F01F-432A-BCCE-B4C3D618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C884D-5700-455E-998A-049BC980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A54D9-A231-49B5-A2D5-DDFA276F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907CB-9B93-4D26-A8F9-624B1A8C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4B247-02DD-42BA-BD45-E95766B5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18E7C-17FA-49F0-A3F5-B56C375C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F115E-E9B0-4199-B5B7-37B22AE1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FE016-B241-45BD-B38A-F90F0012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83E80-9DF2-41CC-A89C-EF37EDC4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89C2-EC3D-43B2-B120-319AE20A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9425C-1314-4A39-8687-227C4162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353EF-8E0D-4CBC-A171-0DAE61CE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BEE1B-BD4A-497E-B130-5EBA7D43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5E8B0-4AC8-466F-A4BC-908CF91D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1BC1C-C3E4-4E3A-AC7C-2E93AF13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7244C-70DB-4E9C-A6B9-FDB9C87E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1C013-C693-41BA-9A86-CF78B098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D2F44-B4A4-4475-8E36-466D4E0E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F00C4-C2CE-445C-A0FF-A62E0BCD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59B11-7C0A-417E-9796-8701691C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585A-6C2E-426F-868F-8DA34635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3A8E2-D216-4A1C-92AF-4180A8E3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C18EC-46FB-472E-9178-8FA77ACA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0289F-EBAC-4C89-B367-8830CFCC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B7111-11F6-4E4D-BD9E-41D5B0FA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12A5C-88D8-4776-BB31-D32BCE37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ED3AC-85AE-4570-8142-AFB68BC4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41019-F264-4E9C-929B-1DD66728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6C529-64AE-4543-BD03-2FCC7C52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D191E-D485-4448-A7AA-75831B37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00D79-8D14-465C-ACE6-D4D5B625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CEA4-672C-435B-91EB-F10A6B2D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F7B18-CE15-49B4-914F-4A9E9391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91DF6-113A-4DDD-AFAC-2D9634F2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5DD28-0A8B-4FC8-A838-F3115C20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7A4E7-E9AA-4D22-AABC-EDC0031E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77375-9F13-4C96-8EC8-4DC55C3E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C914E-D6CB-419C-8D97-FEF13BD3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928F0B-656C-4A74-8CB5-FC66BA98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8FB48-BCCD-4990-897C-9801E83A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1C919-B387-49E3-AAA9-FDBF81B2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8B8785-F5B1-44AC-AA91-27A3BAC2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4451-1D85-4920-8A53-A5401C99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AEA1F-8324-4770-B2A7-B0453962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81715-9E44-4CE2-9F0B-CDFA9152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92A08-D2BE-4155-B8F3-AA8FF41C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270D4-13BF-42AB-B446-3CBFAC11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3EDEE-C148-4DCF-811C-D02BBDE9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7DDC3-FF62-4C3B-916A-709B6EF1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707AF-24F1-49C4-92FF-B93E66B4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C42EBB-9B90-4F87-AD71-571F31DA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BF519F-CE55-4E83-B748-513BA2C4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91A45-4B47-41FA-BFB0-23D02B70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B48E-98DB-48F6-AA3A-14B6857D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140093-874C-47C0-8480-CC53A329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06CB77-0BE0-41C6-9871-B732A66F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05EDA-4ACB-406D-9F16-764B37F5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AC784D-1400-4C46-890E-7D8E31EA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DA65D-6040-4180-8F09-9B5DCFF6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CBAF4E-E398-4A71-8D55-B0EB346B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ADA2D5-6119-486C-8B7E-B8DE302C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4A13F-398E-4A9F-A644-645367AF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C702C9-1748-48F3-A4F2-13925CB7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B784CD-A8FF-45C5-B333-E232400A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75FF-9945-4431-A3CF-75A092D8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189130-DB9A-4B3E-B45C-34FE3D20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F44FCC-0082-48AF-9DCB-FE73D20A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E3D310-6184-41A8-A9C4-5CC7EAD4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1B8479-5C2D-4C5B-8C7A-AAF8C9ED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63500B-C982-40A6-833E-F7BBF56B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A1A3CA-6A28-4E9C-9A2D-12EC8B51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D444F6-CD26-45D6-AF41-DB13B431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7B6475-2B87-4DA2-847D-A0B7C6F6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C447B0-AA22-4C8B-B85C-12898BF6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68363E-E9B7-48BF-99C9-F1D2F5FB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5161-0B0D-43F3-8D59-65581BA7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B417D7-D4FB-4165-A1D6-242D31F7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BC00D6-6AE0-42A0-9288-032C8D5D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29A20E-FFCE-41BA-B9D4-62AA63FD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119787-51F9-4236-8D88-3C22CDC0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F63290-9168-44A2-8DD9-9FC4F0AF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B5FBAD-3E3C-4F9A-8B83-737B6B2A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96198-8625-4ECC-B182-7DC9A53D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02417D-D06C-403F-A86C-7B578182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D524FF-85F5-4E05-8159-A1485FBD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D46D65-3AF7-4356-A1E1-9E57A45F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5370-A187-4648-B2CA-967350EF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208501-FCFF-4FD3-AD91-985363C6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046031-D104-4FEB-B1BB-D19C1425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E4D927-D44A-40F9-A99A-F57035EB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ED0B26-F566-4D3B-9BD8-595FFC78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F88CA2-D8AA-4785-8613-0A44F9A8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93940B-F936-42FE-A70B-C6470EE1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30DA41-8EC1-4A1C-BEF5-13F92E4A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5F73FA-32A7-4F6A-A09B-1F009E2A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992D3F-06BD-498C-B4F9-C1E3B543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0880C2-4189-4611-90D0-458B5795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DB2A-7E57-44FB-8114-B6431913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1DAC-4EF3-42EE-863A-918A6742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8418FC-4A8C-420F-B681-E285DF00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DFC1D1-96F7-45F1-A868-8F80E395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C3F5C8-DA7B-4704-9FEF-34FF74E0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AFD540-57B1-49F0-B415-2A38966A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271750-D2F6-4BAC-B6D5-CE8FF19E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C4C739-3EE4-437F-808C-742F2C88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498D76-0F55-4A09-898B-CF1F07E4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75FE98-6550-4A04-86F9-0B1ACE29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852AE1-0683-46DC-B393-8B09C17A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98BF91-EF28-4898-9087-24CD3720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A3D2-BA6F-4DE8-AFDF-BE776390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AAEA01-6B68-4FC3-B015-91491394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68A1D5-C467-4A71-A229-50E0133A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43B9E3-5138-46CD-83DE-1F38E8ED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9A9BD6-790C-4D46-AA2A-207298E0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1B666E-691B-43E9-8510-8E9C46AC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4BF38A-5F84-4319-B200-E38179CC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0019E6-C06F-4186-854B-C51D73F9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6B0EB4-9F5C-43B0-AE91-7F56C6CB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80C25A-3B21-41F3-ADCE-E6DB711C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7E004D-C093-4611-B650-B4CBFEA8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5889-4834-43F1-AAB3-8EB34F19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E3E8CA-7ECD-4A8F-96EC-14C92A30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9E1F79-F4A5-4371-88F4-85EF5E25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7C68FF-A25B-478C-B7F7-9D395C89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CE906A-8703-4A9B-ACB1-F26E3D9C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AC7506-DD0D-404C-8C29-95A928C6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C1FF38-69DA-42BF-BA6E-ABB33B49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3ECB1D-D692-4BE9-869F-29A98E93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F1EB27-8B2A-42BA-A81C-5A83FBB6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08145B-8B27-44F3-BDED-171AE460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82B283-D80F-4BB2-8D2A-7618BA36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D042-978B-4973-92EB-8F2F9080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55C8D9-175A-425E-8DE6-8F506C2C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E02AD7-7674-401C-97E4-92BB56DE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ECC6F3-C075-42B9-8EDA-0C29ACDF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3077AF-9630-462B-8A1D-313AB866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9CD826-BC84-4199-9E17-6B070225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C92139-D39C-44EA-A9DA-19676E1E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95D41A-DF9A-4F50-8F36-47E84A93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6B7BC6-5C2E-4D4E-AA69-033061C3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D9108F-391C-4A21-A891-018CE830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B8C10B-6AE3-4AF6-BBC3-151399BB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B2B4-2EDB-4C1F-B559-0B1854D9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9FC4F7-802A-416B-82F1-F4748476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AC9388-C011-4B0D-AEE3-B7281CEE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638A66-9C1B-47C3-A1D9-90FA36B4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EA9E15-55B9-4322-A542-FF897D2F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693246-1553-454D-B3E2-CF099726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BA09BF-5AAF-49C0-858B-7F93B518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34BE95-8F50-46D8-9A53-FABD4F3B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6FF2DD-FC1C-4B36-9D7F-A4A0E1D0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8D3668-5E90-484B-A78C-2940D4F1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EFA85A-3250-49B8-A25B-3A472175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10C24-53C4-4728-B1DD-01B77529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40670B-337C-48AA-9DEA-C2A60B61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3DE0BA-8925-405D-B491-17B11023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9E886B-1727-4E61-AADD-E32C8F10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AFD036-1385-47DD-A0D6-4BA6F113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8B426D-E1B5-4C59-A881-786BD418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554692-07E4-4C7B-B7E6-6EA40680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B10BEA-0F4C-48AC-89C6-0184602D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6E9838-9C22-4667-9F1A-0B767D9A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3EC057-8A6B-401E-8BE2-D93AE36F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0D972F-38AC-46BA-9C18-BD3215E0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1C982-BF3B-45F5-8F19-82AB9D27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42958D-E890-4B8C-A011-1274FF3E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8ACAEE-CD04-4295-A131-50413A9C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6212C2-597A-4C16-B088-B74CF979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89ECE9-0588-4730-BA9C-472980E5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B72FD0-3420-43C5-BD59-00620CA9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4B0839-8527-4CD7-B07B-93D4FFE0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B83479-4746-4497-BA6B-BE921FCF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FD2329-ECB0-42E3-9717-52E0D341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720697-1FAE-4471-91DE-8907C5CC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F0A99B-405C-43A6-8561-E47345DA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3D1EF-37A7-43DE-A5D7-98B2D79A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19AD4B-6754-45FB-B70A-8F479474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1F5DDD-9B5C-4A8D-944F-C268C6A9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F60301-8943-41F6-930A-E80F7B7C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1A9FC1-35C4-4D03-9C2D-AA0D6AF7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2CC110-2B53-45A8-BB79-88360625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CBE854-98CC-43B2-BB17-BA85FB26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D0E819-168F-42C3-943E-5066ABB9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46E09-5EE8-43AA-B81B-44055099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01DAE-80E8-4787-B9C4-FBEBB9BC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46C-47A6-4B1C-8C82-CDCFBA4A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54416-26C1-4EF2-9938-D3D46078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13853-8DAB-4AA9-AC5D-F2A77989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399E9-4E41-438D-A4E3-BAEC83EC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869BB-43AF-4D71-8171-0D091ADE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9A822-20C3-4210-BDC0-0340B42B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3805B-AEF4-41A2-9A84-B324BDF1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D2930-534C-4371-A92D-BB888B6C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69E54-AF7D-4855-A361-D31EA704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D241E-7780-4E23-A114-1BEF58E6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5A5FE-D0A7-409C-854F-84B0DF20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F34-B013-4CB9-9462-E685A1AA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3DC52-86BA-489C-94AC-84FA28F1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773C4-F62C-44E9-B350-880628EE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C2436-B930-4AFD-A087-448B9A44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F654B-281F-41C6-B392-FB30E3AC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6B709-0F52-4961-ACC1-4F6FE0BA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6205D-923D-4E45-A1F8-4FBE1AA4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6A6BA-839D-4551-B6FC-DBD0BFD3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726E7-C9CF-400C-A17D-205B4E1C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29070-0911-4FC7-971E-CE786925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BBFCA-C288-4FF3-ACEB-B6B20335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5C2-8A19-40AE-8C37-DDEAE6EC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8BD50-A812-41D6-B773-601662E1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102E5-8D64-436B-8C4B-CF5CA8F8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2626B-FB9F-4FE8-87E7-F1EC9BE3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9FD95-FE12-4E94-986A-B49953E7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E0D92-0D20-4412-B99A-47577411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ABEB8-D9FA-477D-B478-A28A6A93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A07DD-9E60-4354-87FE-FD86F11B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1065A-593C-4DF4-8AF8-22E39B73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8F722-A6AE-4682-B075-6CAB0F6D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DC792-1F3D-43D1-8C52-9BBEB88A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2E4B-E73A-49C0-B293-DEA2F7DF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D3B24-1FBE-499D-AE00-117D3B5D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23EF2-8598-4054-AEFD-A1702BA2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828F8-E9C7-4008-8595-364C98E7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6DF23-DCA2-4E1C-9CB7-59F3AAC3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995D7-FEDD-4B1E-9F2D-9B035EFD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ECFB3-090A-4CAC-B81E-82356523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7004A-FBC5-45AD-8C58-BFECEAC8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E2E6F-E87C-4709-BBA3-BBBDA83A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CA731-D35C-44E4-A15A-AE27BBC0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6006D-E450-4300-92D2-D9812B60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E163-6D26-4481-8048-C2422894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45056-EB71-45ED-A009-CCF3265C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71BE8-5F4A-4F7B-8071-F915C93B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8266D-7053-4C4C-9ADB-68EA41C6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7710D-370F-466D-93AC-4BA32781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AAAAE-E469-4762-BEB9-2EDE51FE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71EF3-08F6-4072-92D9-09401FDB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33B50-1B98-40AE-981A-D0E7BF8A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7F08B-1D6A-4209-A8A1-847CCBC5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13ABB-1E28-4D16-9D0F-8208F333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31701-DB77-4090-8129-A8982FDA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FBF-8CE2-4F88-9721-F0F6EC7C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74382-6277-468C-9A1F-37050B1B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97C19-B4F9-4812-A8CD-11DCA2B5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50E93-5014-4CF9-9615-12C483E8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57DC5-1788-4C53-9019-44328B5C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29E4D-DA08-45E6-B155-E6E22590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8AF9F-AC62-4F9E-AAF7-6FA7A146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68753-8FB5-43D3-B42A-F61EE363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B0ED7-5997-41AC-8DEA-B06AB645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3D3F5-77CF-4AEA-942F-2CC69715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A9D75-D8F4-4893-B83D-713973F4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540-702B-42AF-B68C-59511E9D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666BE-F8DD-4554-B116-5DEB4F7A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C117B-35B6-41C9-BB46-E1EDC1C4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849AD-2520-49C7-8F79-587AAC34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9085B-50F3-4AB7-B95F-B9BC7584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D3254-08AF-4715-83C9-B39822DE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67673-6952-4B9D-9C7A-2EABF2F6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0A4CE-CAA4-4DA1-B2A1-D9A1E9CC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94B83-1C8E-4242-8D29-5E96C6BC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0C5B8-BABD-47B3-B5D6-1D1CC6F4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09D87-8D3E-4B14-AC28-F8E48C2D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9126-7E61-4AF1-A172-7F0C5CA5FA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6997-7580-43E3-8937-AFBB2D306B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8449-9060-4D90-8525-5C3FE8548E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DBE2-C87B-47D6-A758-F0E460CDF0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00AE-0406-429F-8B6F-7ECB644C79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3C75-3F0D-4A72-A7B3-7798F6DE89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5AFB-613B-4143-B725-A667271683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14D1-089D-443E-B00F-96F7BCC924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5D54-59D4-43A0-B3C2-21796E328B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1CE1-B74A-4AB8-BE25-2A97F7918D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71FA-B03F-4CF1-B8BF-F362D7A61C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7FE3-FECF-4EC0-B4D9-A03D5F5970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A890-01CA-47E9-937D-BB82CCDDED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4C0D-349D-44CB-BF0D-3933A6CA4C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EB5B-526F-40B5-B612-08C3375B21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59B0-B798-4213-B7EA-ACBA375A41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5403-9DD6-4BB1-8EA1-C9C55E518D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1248-F406-49E1-A195-A61ED597C3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026A-9339-4030-BCCC-C710B3D27F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0986-AC48-45E3-9AB2-27C2868E1A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0764-B8BE-4099-95A6-4D540A5989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EE4F-64C5-4CCC-A842-301300C0641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7A5B-620E-4B7A-A760-30FF06123A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EBBF-125C-49B8-AFD5-2F90511F4D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2DCA-35FC-486F-ABA8-F588D329C9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4190-6E51-45B2-AE95-C1077B17B6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8FC8-BEF5-4F27-9560-0439C760E2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6232-FF9C-4175-B6CF-47DB56E759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4C39-AFE8-468A-AF5F-21E9ECDD02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D6FA-1600-427F-9911-02BE239643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B3C7-3B69-4DD3-BCFB-0BE6E451DF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0E1D-28B0-4915-83A5-42CAAC4324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B5A7-5EB5-47D7-B57B-CF1F709B79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EB71-4695-4E3F-8E34-4002D50DA1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AA00-C845-47FD-BD53-737B6687BB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5AEC-8A1D-4643-81F3-18F022ED8F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194B-82C5-4C1C-86CC-7B73A6AC47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BBC5-2FA0-49E0-AB82-AFDEF0437F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A06E-DB68-4A10-B0DA-951A8FDDEB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7E47-6F65-4AB8-9744-B54ACEA247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0E46-5395-46A8-BCB5-DC672221C0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C180-05BB-4AF7-9564-A0F81BADA9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166840" y="1371600"/>
            <a:ext cx="4810320" cy="1171440"/>
          </a:xfrm>
          <a:prstGeom prst="rect">
            <a:avLst/>
          </a:prstGeom>
          <a:ln w="0">
            <a:noFill/>
          </a:ln>
        </p:spPr>
      </p:pic>
      <p:pic>
        <p:nvPicPr>
          <p:cNvPr id="1006" name="图片 2" descr=""/>
          <p:cNvPicPr/>
          <p:nvPr/>
        </p:nvPicPr>
        <p:blipFill>
          <a:blip r:embed="rId2"/>
          <a:stretch/>
        </p:blipFill>
        <p:spPr>
          <a:xfrm>
            <a:off x="255600" y="3703680"/>
            <a:ext cx="863280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1082520" y="701640"/>
            <a:ext cx="7209000" cy="60501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6732720" y="191628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6732720" y="249228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6732720" y="306864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5"/>
          <a:stretch/>
        </p:blipFill>
        <p:spPr>
          <a:xfrm>
            <a:off x="6732720" y="407664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6"/>
          <a:stretch/>
        </p:blipFill>
        <p:spPr>
          <a:xfrm>
            <a:off x="6732720" y="465300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7"/>
          <a:stretch/>
        </p:blipFill>
        <p:spPr>
          <a:xfrm>
            <a:off x="6732720" y="522936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8"/>
          <a:stretch/>
        </p:blipFill>
        <p:spPr>
          <a:xfrm>
            <a:off x="6732720" y="568944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9"/>
          <a:stretch/>
        </p:blipFill>
        <p:spPr>
          <a:xfrm>
            <a:off x="6732720" y="6265800"/>
            <a:ext cx="122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338040" y="1933560"/>
            <a:ext cx="8467920" cy="29908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5076720" y="357336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5003640" y="4221000"/>
            <a:ext cx="13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793800" y="517680"/>
            <a:ext cx="6797520" cy="62611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547640" y="3227400"/>
            <a:ext cx="5472360" cy="6192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1835280" y="4797360"/>
            <a:ext cx="5472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204840" y="1643040"/>
            <a:ext cx="8734320" cy="35719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5329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438120" y="800280"/>
            <a:ext cx="8267760" cy="52578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6012000" y="283680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5940360" y="5084640"/>
            <a:ext cx="223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523800" y="1995480"/>
            <a:ext cx="8096400" cy="2867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194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343080" y="792000"/>
            <a:ext cx="8458200" cy="5648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971640" y="5157720"/>
            <a:ext cx="18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3059280" y="5157720"/>
            <a:ext cx="57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971640" y="5877000"/>
            <a:ext cx="576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130320" y="1590840"/>
            <a:ext cx="8883360" cy="191268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2" descr=""/>
          <p:cNvPicPr/>
          <p:nvPr/>
        </p:nvPicPr>
        <p:blipFill>
          <a:blip r:embed="rId2"/>
          <a:stretch/>
        </p:blipFill>
        <p:spPr>
          <a:xfrm>
            <a:off x="1370160" y="3940200"/>
            <a:ext cx="6829200" cy="22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3390840" y="2060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3132000" y="263700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6012000" y="2060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5940360" y="257976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7"/>
          <a:stretch/>
        </p:blipFill>
        <p:spPr>
          <a:xfrm>
            <a:off x="8567640" y="2060640"/>
            <a:ext cx="39708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8"/>
          <a:stretch/>
        </p:blipFill>
        <p:spPr>
          <a:xfrm>
            <a:off x="8718480" y="2593800"/>
            <a:ext cx="3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9"/>
          <a:stretch/>
        </p:blipFill>
        <p:spPr>
          <a:xfrm>
            <a:off x="3492360" y="450864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0"/>
          <a:stretch/>
        </p:blipFill>
        <p:spPr>
          <a:xfrm>
            <a:off x="3492360" y="5157720"/>
            <a:ext cx="6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11"/>
          <a:stretch/>
        </p:blipFill>
        <p:spPr>
          <a:xfrm>
            <a:off x="6732720" y="450864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2"/>
          <a:stretch/>
        </p:blipFill>
        <p:spPr>
          <a:xfrm>
            <a:off x="6732720" y="5157720"/>
            <a:ext cx="934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8:2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